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D80D-687B-4350-8943-8EA5F474A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873D-8459-4003-8193-4CC349BC8E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FB9-4108-42F7-B426-F5EC21F5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671-17AD-46C5-B68B-D1317BCF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017-A17A-4EC9-884A-1F4110F9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F6E-54BB-4412-816D-A34FFE9D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041-1313-4DB0-B79C-5188AB49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F8D-3314-48D9-8F77-47DEC7C6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88A-8946-4957-A582-82E48D1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205-A72D-498C-88C7-A2217EF5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524-246D-4448-8713-09FD04F9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5E3-A7AF-44A0-B5C1-2D697DD2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135-DFEF-4D07-A4B1-E72FC64A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24F-6610-4B89-94C8-F039ECB1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A160-0FAE-48AD-A526-C61757080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готовка поход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едиц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928880" y="1857240"/>
            <a:ext cx="5286240" cy="3838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5214960" y="5929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рклуб КПИ «Глобус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анд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нчу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Аптечки (состав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анд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мпульные препар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трем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ttps://spreadsheets.google.com/spreadsheet/ccc?key=0Artu03Ne4RhQdGs4d0MzTG8wZGRsWUoyQXl6MnVpOWc&amp;hl=en_US&amp;authkey=CN3_24Q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0" y="642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Ушибы, растя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имптомы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бол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припухл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кровоподте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ервая помощь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наложение тугой(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но не пережимающей сосуды!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повязки или шин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холод местно первые 24 часа после травмы по 15 ми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приподнятое положение конеч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обезболивание( нимесил, ибупром в таб. + «охлаждающие» мази местно- долобене, дип-рели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Кровоте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виду сосуд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ртериальная( кровь алая, фонтаниру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енозная( кровь темная, вытекает медлен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Капилля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Паренхиматоз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направлению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иткане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Гемост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рургическ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 временный( сразу после травмы в порядке неотложной само-, взаимопомощи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кончательный ( с больнице, госпитал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Методы временного гемост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При капиллярных, венозных кровотечения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Тугое прижатие кровоточащего места( за исключением травм глаза и вдавлений свода черепа!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Приподнятое положение конеч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ри артериальных кровотечения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Пальцевое прижатие артер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Максимально сгибание или переразгибание конечности в суставе( способ Адельман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Круговое пережатие конечности( = наложение артериального жгут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Правила наложения артериального жгу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накладывать жгут на голое те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ед наложением поднять конечность на 1 минут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кладывать жгут «проксимальнее» места кровотечения  в натянутом ви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ягивать до исчезновения пульса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 Слабо затянутый жгут усилит !  кровот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перезатягивть в тоже время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бы не передавить нерв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www.youtube.com/watch?v=wCXYkral5zg&amp;feature=relmf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Правила наложения артериального жгу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последующий тур жгута накладывают слабее предыдуще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ость пережатия конеч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летом не более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,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а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имой не более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а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жгуту прикрепляют этикетку, на которой указано время на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транспортировки жгут должно быть видно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Calibri"/>
              </a:rPr>
              <a:t>Вопрос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857240" y="1714680"/>
            <a:ext cx="5295960" cy="49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857680" y="2000160"/>
            <a:ext cx="39290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81bd"/>
                </a:solidFill>
                <a:latin typeface="Calibri"/>
              </a:rPr>
              <a:t>План ле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дик в группе, цели и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язанности медик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до поход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ход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ле пох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птечк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ичн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 типичные травм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болевания в похо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" dur="indefinite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Медик – к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ьно – вр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идеально – интер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лохо – студент-медик или фельдш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сес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асен для себя и других – студент другого, немедицинского профиля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Цели и задачи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медика в пох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йти безаварийно весь пох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заболеваний до по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навыкам ПМ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апте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троль состояния здоровья участников в походе, оказание ПМ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Обязанности медика </a:t>
            </a:r>
            <a:r>
              <a:rPr b="1" lang="ru-RU" sz="5300" spc="-1" strike="noStrike">
                <a:solidFill>
                  <a:srgbClr val="ff0000"/>
                </a:solidFill>
                <a:latin typeface="Calibri"/>
              </a:rPr>
              <a:t>до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 по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81867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 за состоянием здоровья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варительный опр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http://www.tkg.org.ua/node/219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ультации специалистов при выявлении проб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решающее влияние на руководителя в плане участ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участия человека в походе по мед. показа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учение себя и участников похода навыкам ПМ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теоретических и практических занятий по оказанию ПМП с отработкой типичных сценариев, желательно в условиях «приближенных к боевы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посещения спец. курсов ПМП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dunan.com.ua/First_Aid_training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Анкеты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ebanketa.co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Обязанности медика </a:t>
            </a:r>
            <a:r>
              <a:rPr b="1" lang="ru-RU" sz="5300" spc="-1" strike="noStrike">
                <a:solidFill>
                  <a:srgbClr val="ff0000"/>
                </a:solidFill>
                <a:latin typeface="Calibri"/>
              </a:rPr>
              <a:t>до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 по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ставление общественной аптеч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тавление списка необходимых  наименований ( помним о весе аптечки. Это зависит  от категори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йо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-ва участников похода!!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уп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аков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учение команды умению работать с аптечк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новление отсутствующих, в недостаточном кол-ве или с истекшим сроком годности наименова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ставление списка личной аптечки, контроль за его выполнени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tkg.org.ua/node/2063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Обязанности медика </a:t>
            </a:r>
            <a:r>
              <a:rPr b="1" lang="ru-RU" sz="53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 пох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казание ПМП участникам при остры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стрении хр. заболе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местно с руководителем принятие решения относительно схода участника с маршрута по мед. показания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дицинское обеспечение ПСР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филактика пищевых инфекций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равлений, трав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держание командной апте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к в необходимом состоян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Обязанности медика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осле</a:t>
            </a: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пох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своей части отчета о спортивном пох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286000" y="2571840"/>
            <a:ext cx="48006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Классифик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291960" y="1401840"/>
            <a:ext cx="839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27:37Z</dcterms:created>
  <dc:creator>alex</dc:creator>
  <dc:description/>
  <dc:language>en-US</dc:language>
  <cp:lastModifiedBy>Tatyana Moyanskaya</cp:lastModifiedBy>
  <dcterms:modified xsi:type="dcterms:W3CDTF">2012-06-18T13:00:35Z</dcterms:modified>
  <cp:revision>101</cp:revision>
  <dc:subject/>
  <dc:title>Подготовка похода: аптечка, ПМП</dc:title>
</cp:coreProperties>
</file>