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5BA-BB52-4F85-8170-3693CF3C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CF94-CA59-456D-9C84-8E531CD8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A55C-327C-49A4-854D-69B47774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34D-80F2-467D-BE4F-58776DA3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EB7A-DF0B-4A8E-BEC7-17B1D29B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90F-0580-437E-8982-81EAEA9F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08A-3E3B-46FE-A0AB-E438FFDC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11EB-6335-4429-B764-09A9C4D7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6E98-41DF-41DB-89ED-B71B6D58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0EE-FB6C-42A1-90C8-01631A2F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DF09-0FB0-4E75-AF54-F445EA9E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BAEF-5D5F-4E2F-BEF2-A5448B7E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A630-4B25-43E2-A9AC-39A146DD0A7A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moyanskaya.MATUKR\Desktop\presentation\12506125781J7bF3.jpg"/>
          <p:cNvPicPr/>
          <p:nvPr/>
        </p:nvPicPr>
        <p:blipFill>
          <a:blip r:embed="rId1"/>
          <a:stretch/>
        </p:blipFill>
        <p:spPr>
          <a:xfrm>
            <a:off x="1692360" y="476280"/>
            <a:ext cx="576576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Отчет о походе – быть или не быть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6014880" y="5661000"/>
            <a:ext cx="29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Турклуб КПИ “Глобус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ww.tkg.org.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Автор: Татьяна Моянск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50560" y="476280"/>
            <a:ext cx="84358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05bb"/>
                </a:solidFill>
                <a:latin typeface="Calibri"/>
              </a:rPr>
              <a:t>2. Организация туристского спортивного похо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.1. Общая идея похо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чему именно в этот район? Что хотим и зачем идем? Логика маршрута  –  почем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менно такой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.2. Варианты подъезд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 отъезда. Обосновани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ыбора точек начала 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онца похо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ие есть варианты заброс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выброски из района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чему были выбраны именн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и точк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moyanskaya.MATUKR\Desktop\presentation\2012-04-04_1412.png"/>
          <p:cNvPicPr/>
          <p:nvPr/>
        </p:nvPicPr>
        <p:blipFill>
          <a:blip r:embed="rId1"/>
          <a:stretch/>
        </p:blipFill>
        <p:spPr>
          <a:xfrm>
            <a:off x="4211640" y="1989000"/>
            <a:ext cx="460692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moyanskaya.MATUKR\Desktop\presentation\turist.jpg"/>
          <p:cNvPicPr/>
          <p:nvPr/>
        </p:nvPicPr>
        <p:blipFill>
          <a:blip r:embed="rId1"/>
          <a:stretch/>
        </p:blipFill>
        <p:spPr>
          <a:xfrm>
            <a:off x="539640" y="1413000"/>
            <a:ext cx="4372200" cy="2706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2.3. Аварийные выходы с маршрута и его запасные  вариант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2.3.1. Заявленная нитк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хода  5 к.с. по ЮЗ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амир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именно мы планировал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й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2.3.2. Запасные вариан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ие именно запасные варианты мы можем использовать и почем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2.3.3. Аварийные выходы с маршру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уда идем, если что-то случилос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4 Изменения маршрута и их прич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маршрут был изменен по-сравнению с заявленным (не полностью пройден, использованы зап.варианты) – 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moyanskaya.MATUKR\Desktop\presentation\vulkan_0.jpg"/>
          <p:cNvPicPr/>
          <p:nvPr/>
        </p:nvPicPr>
        <p:blipFill>
          <a:blip r:embed="rId1"/>
          <a:stretch/>
        </p:blipFill>
        <p:spPr>
          <a:xfrm>
            <a:off x="1547640" y="2924280"/>
            <a:ext cx="54007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График движения и технический отч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1. График движ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moyanskaya.MATUKR\Desktop\presentation\2012-04-04_1524.png"/>
          <p:cNvPicPr/>
          <p:nvPr/>
        </p:nvPicPr>
        <p:blipFill>
          <a:blip r:embed="rId1"/>
          <a:stretch/>
        </p:blipFill>
        <p:spPr>
          <a:xfrm>
            <a:off x="468360" y="1413000"/>
            <a:ext cx="82105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2.Высотный профиль пох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moyanskaya.MATUKR\Desktop\presentation\2012-04-04_1533.png"/>
          <p:cNvPicPr/>
          <p:nvPr/>
        </p:nvPicPr>
        <p:blipFill>
          <a:blip r:embed="rId1"/>
          <a:stretch/>
        </p:blipFill>
        <p:spPr>
          <a:xfrm>
            <a:off x="250920" y="1268280"/>
            <a:ext cx="85690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moyanskaya.MATUKR\Desktop\presentation\isatel.jpg"/>
          <p:cNvPicPr/>
          <p:nvPr/>
        </p:nvPicPr>
        <p:blipFill>
          <a:blip r:embed="rId1"/>
          <a:stretch/>
        </p:blipFill>
        <p:spPr>
          <a:xfrm>
            <a:off x="5892840" y="333360"/>
            <a:ext cx="2911320" cy="251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2. Технический отч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лится на логичные отрез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ти, не обязательно привязан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ые к дня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C:\Users\moyanskaya.MATUKR\Desktop\presentation\2012-04-04_1538.png"/>
          <p:cNvPicPr/>
          <p:nvPr/>
        </p:nvPicPr>
        <p:blipFill>
          <a:blip r:embed="rId2"/>
          <a:stretch/>
        </p:blipFill>
        <p:spPr>
          <a:xfrm>
            <a:off x="395280" y="2492280"/>
            <a:ext cx="686268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2. Технический отч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Описания перевалов и вершин – отдельные разделы в формате  «Паспорт препятств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moyanskaya.MATUKR\Desktop\presentation\2012-04-04_1541.png"/>
          <p:cNvPicPr/>
          <p:nvPr/>
        </p:nvPicPr>
        <p:blipFill>
          <a:blip r:embed="rId1"/>
          <a:stretch/>
        </p:blipFill>
        <p:spPr>
          <a:xfrm>
            <a:off x="539640" y="1814400"/>
            <a:ext cx="460872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C:\Users\moyanskaya.MATUKR\Desktop\presentation\xrgnbfjk.jpg"/>
          <p:cNvPicPr/>
          <p:nvPr/>
        </p:nvPicPr>
        <p:blipFill>
          <a:blip r:embed="rId1"/>
          <a:stretch/>
        </p:blipFill>
        <p:spPr>
          <a:xfrm>
            <a:off x="6300720" y="4149720"/>
            <a:ext cx="2228760" cy="24908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.2. Технический отче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3. Содержит полное описание пути прохождения в привязке к окружающей местност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Calibri"/>
              </a:rPr>
              <a:t>День 10, 09/08/201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слияния рек Чандиндара и Шахдара движемся по широкой грунтово щебенчатой дороге вдоль правого берега р. Шахдара. Через 1 час 20 мин чхв проходим дорожный знак «Сежд», обозначающий въезд в кишлак Сежд (рис.10.1). Переходим р. Шахдара по металлическому мосту на левый берег. Через 200м начинаем подъем по тропам траверсируя северный склон п. 3626,7 с запада на восток (рис.10.2). В северо-восточном направлении открывается вид на п. 3524, п. 3868,5, п. 4136  (рис.10.3). Затем движемся по грунтовой тропе с крупной и мелкой осыпью по бокам от нее (рис.10.4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ез 2 часа 20 мин чхв вышли к водопаду р. Шахдара (рис.10.5) возле слияния р,Шахдара с р.Сеждара. От слияния продолжае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ижение на юг по  левому берегу р. Сеждара п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нтовой тропе со средней осыпью, видим п. 352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правом берегу р. Сеждара (рис.10.6,10.7). Через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часа чхв останавливаемся на ночевку на полян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левом орографически берегу р. Сеждара ниж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ияния Сеждары и Зирхандары (рис.10.8). Высо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чевки 3120 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Содержит фотографии, подтверждающие прохождение препятствий и по возможности фотографии соседних препятствий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.2. Технический отч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C:\Users\moyanskaya.MATUKR\Desktop\presentation\2012-04-04_1547.png"/>
          <p:cNvPicPr/>
          <p:nvPr/>
        </p:nvPicPr>
        <p:blipFill>
          <a:blip r:embed="rId1"/>
          <a:stretch/>
        </p:blipFill>
        <p:spPr>
          <a:xfrm>
            <a:off x="611280" y="1628640"/>
            <a:ext cx="73594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4. Расчет категории сложности пох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поход пеший и не является эталонным маршрутом, его категорию сложности необходимо рассчитывать п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Методике категорирования пешеходного маршрут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поход горный – приводи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ечень препятств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moyanskaya.MATUKR\Desktop\presentation\2012-04-04_1552.png"/>
          <p:cNvPicPr/>
          <p:nvPr/>
        </p:nvPicPr>
        <p:blipFill>
          <a:blip r:embed="rId1"/>
          <a:stretch/>
        </p:blipFill>
        <p:spPr>
          <a:xfrm>
            <a:off x="539640" y="2492280"/>
            <a:ext cx="5570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 написания отч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ые виды представления отче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аблон отчета о пох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его разделы: что ку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с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главное – ЗАЧЕ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moyanskaya.MATUKR\Desktop\presentation\s3img_14015342_23457_1.jpg"/>
          <p:cNvPicPr/>
          <p:nvPr/>
        </p:nvPicPr>
        <p:blipFill>
          <a:blip r:embed="rId1"/>
          <a:stretch/>
        </p:blipFill>
        <p:spPr>
          <a:xfrm>
            <a:off x="5148360" y="2637000"/>
            <a:ext cx="35319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5. Картографический матери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листах карты масштаба 1:1км изображается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ной запланированный маршру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пасные вариант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варийные вариант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йденный маршру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авятся отметки старта и финиша, всех перевалов и вершин, места дневок с указанием числа и дн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казывается направление движения групп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вязки фотографий к месту съемки и угол охва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C:\Users\moyanskaya.MATUKR\Desktop\presentation\Маршрут похода.jpg"/>
          <p:cNvPicPr/>
          <p:nvPr/>
        </p:nvPicPr>
        <p:blipFill>
          <a:blip r:embed="rId1"/>
          <a:stretch/>
        </p:blipFill>
        <p:spPr>
          <a:xfrm>
            <a:off x="324000" y="260280"/>
            <a:ext cx="84405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moyanskaya.MATUKR\Desktop\presentation\3939.jpg"/>
          <p:cNvPicPr/>
          <p:nvPr/>
        </p:nvPicPr>
        <p:blipFill>
          <a:blip r:embed="rId1"/>
          <a:stretch/>
        </p:blipFill>
        <p:spPr>
          <a:xfrm>
            <a:off x="5508720" y="476280"/>
            <a:ext cx="3263760" cy="2016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333000"/>
            <a:ext cx="83152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ыводы и рекоменда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раткое резюме похода – ч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ыло/не было сделано и поче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стоинства и недостатки пох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исания препятств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что стоит обратить вним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угим групп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аткое резюме по связи в походе, страховке, краткие рекомендации по снаряжению и процессу подготов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се, что на что вы считаете нужным в первую очередь обратить внимание других участников и руководителей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4.10. В розділі "Підсумки, висновки і рекомендації по проходженню маршруту" подаються підсумки походу, а також висновки по прийнятим в поході тактичним і технічним рішенням, рекомендації по проходженню маршруту, окремим перешкодам, пропонуються найбільш цікаві варіанти, подаються описи та рекомендації щодо місць ночівель, тощо, з врахуванням під’їздів та виїзд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ложения </a:t>
            </a:r>
            <a:r>
              <a:rPr b="0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.11. В розділі "Додатки" зазначают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списки особистого та колективного спорядження, склад аптечки і ремонтного набору, їх вагу. Оцінка придатності інвентарю, використаного в поході. Рекомендації по спорядженню і інвентар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список продуктів і раціон харчування на маршруті, їх вага, даються рекомендації про можливість поповнення продуктів на маршрут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) загальна вага продуктів і спорядження на групу і в середньому на одного учасника (чоловіка, жінку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) кошторис затрат на похід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) розклад руху транспорту, час роботи відділів зв’язку чи пошти і т.д.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є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список літератури та туристські звіти і інші джерела інформації, які були використані при підготовці походу і при складанні звіт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) характеристика особливостей матеріального забезпечення, вказати, що було зайвим, а чого не вистачало. По оригінальних конструкціях спорядження і суден потрібно навести ескізи і фотографії, по саморобним уже відомим конструкціям - основні характеристики (розміри, діаметр балона, об’єм тощо.), по стандартним судах - назвати тип і описати доробки, якщо вони робилися. Таку ж інформацію варто дати по рятувальних жилетах і страховочному спорядженн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) Перевальні запис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чем нужен отче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одтверди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хождение маршру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оздать актуаль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сание препятств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оделиться полезн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ей с другими группами, которые пойдут в этот рай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C:\Users\moyanskaya.MATUKR\Desktop\presentation\nature013.jpg"/>
          <p:cNvPicPr/>
          <p:nvPr/>
        </p:nvPicPr>
        <p:blipFill>
          <a:blip r:embed="rId1"/>
          <a:stretch/>
        </p:blipFill>
        <p:spPr>
          <a:xfrm>
            <a:off x="539640" y="1700280"/>
            <a:ext cx="30528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рианты представления отчета на защи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 быть устным или письменн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 представляться в полной или сокращенной форме (указываются раздел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т чего зависит фор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дачи отче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moyanskaya.MATUKR\Desktop\presentation\1290826798_bci.jpg"/>
          <p:cNvPicPr/>
          <p:nvPr/>
        </p:nvPicPr>
        <p:blipFill>
          <a:blip r:embed="rId1"/>
          <a:stretch/>
        </p:blipFill>
        <p:spPr>
          <a:xfrm>
            <a:off x="6012000" y="3500280"/>
            <a:ext cx="26971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орму подачи отчета определяет МК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висит о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тегории пох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ля походов 1-2 к.с. отчет может бы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стным. 3-5 к.с. – письменный пол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ли письменный сокращенный (обыч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е выше 3 к.с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я /отсутств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ментов  первопрохождений на маршру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moyanskaya.MATUKR\Desktop\presentation\kosmicheskij_prepodavatel_g.jpg"/>
          <p:cNvPicPr/>
          <p:nvPr/>
        </p:nvPicPr>
        <p:blipFill>
          <a:blip r:embed="rId1"/>
          <a:stretch/>
        </p:blipFill>
        <p:spPr>
          <a:xfrm>
            <a:off x="6012000" y="836640"/>
            <a:ext cx="26557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делы отч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ечень разделов, которые должны входить в отчет о совершенном походе, и требования 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кументу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имоги до складання звіт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 спортив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туристський похі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http://www.tkg.org.ua/node/44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Users\moyanskaya.MATUKR\Desktop\presentation\book51316.gif"/>
          <p:cNvPicPr/>
          <p:nvPr/>
        </p:nvPicPr>
        <p:blipFill>
          <a:blip r:embed="rId1"/>
          <a:stretch/>
        </p:blipFill>
        <p:spPr>
          <a:xfrm>
            <a:off x="324000" y="2637000"/>
            <a:ext cx="3149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Титульный лист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22432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главл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чтобы не искать 3 года в отчете то, что нужно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дел 1 – справочные данные о пох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5607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5 Данные про участ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6 Характеристика района проведения пох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из себя представляет район – страны, горы, основные виды рельефа, климат, достопримечательности, население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moyanskaya.MATUKR\Desktop\presentation\2012-04-04_1345.png"/>
          <p:cNvPicPr/>
          <p:nvPr/>
        </p:nvPicPr>
        <p:blipFill>
          <a:blip r:embed="rId1"/>
          <a:stretch/>
        </p:blipFill>
        <p:spPr>
          <a:xfrm>
            <a:off x="611280" y="1052640"/>
            <a:ext cx="72738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7:41:21Z</dcterms:created>
  <dc:creator>Moyanskaya</dc:creator>
  <dc:description/>
  <dc:language>en-US</dc:language>
  <cp:lastModifiedBy>Compaq</cp:lastModifiedBy>
  <dcterms:modified xsi:type="dcterms:W3CDTF">2012-06-18T21:48:47Z</dcterms:modified>
  <cp:revision>35</cp:revision>
  <dc:subject/>
  <dc:title>Slide 1</dc:title>
</cp:coreProperties>
</file>